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642-6ADE-4B43-B949-A22361B5F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5E2E-BA4D-453D-AD8F-18984E455E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7EB-1597-4061-B3FF-32302B8B39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5C3E-9326-4518-9C30-9EE1CDA514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6C34-AFCF-4458-A099-9EA85C6E61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857-B57D-491B-9F26-88F512E3FD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87A1-23EC-43F0-B362-C61F53A184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E87-7287-4462-AAF9-6FC84D6347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2E25-29F5-4BA8-8F4E-1052BEB912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EF55-47F8-44C0-8998-913DDF0639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3AFD-A480-4EEF-AB63-41AAAA3BFA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FE6-DA8C-4ED5-A65A-C0C03DC532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BCC-14A0-499C-AE23-7665148978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C1F-10A0-415E-B6F4-6A48C5D5A3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FCAD-8128-4346-8FB1-2161B5F128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FFB5-3BA8-4D28-9C92-0093FFE637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CC25-85E8-487B-A759-BC38A6E112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B3F-EE5D-495A-AC5A-9CFA17EB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E1A-7184-454F-9433-CFED43C5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E97-A25E-48C7-AA6F-D38078C2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117-6BFD-4253-9498-A6B6C1E5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721-159C-4B3D-BD53-9CCE9890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60AD-D241-4A98-9A71-85A33026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FA45-8778-4E8B-9419-FDD5FF7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B9BB-5EEA-42FC-912B-B0C9139A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30D-998A-4F68-A84F-462A756D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3A1B-0741-4E6E-860E-26D8435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C76-4ABB-42F2-BE20-733D61B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CE1-F4CB-4194-85C3-E2315120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7600-E962-4313-AC13-F11AAF0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27A-EBBE-41CE-AE84-4C075D2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890D-4ECC-4838-AF30-153C732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1249-9AAE-4903-90E9-C674D6EF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0511-4D6A-42BB-8B5E-D4A3BB6B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EE6E-C9FF-4E85-B36C-97A895E7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CE47-F933-4CD6-BE9B-12446DF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3604-4138-4868-B419-77E99C3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82F3-220B-46C1-9927-9E412CA9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FFB5-DEBE-4DAF-98A7-28835499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096-8B5D-4A7C-9829-3D2DCB1E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CDFD-206F-4DDF-A940-7B86C878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CF7C-6F49-448F-A943-4C32BA3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DB72-58E5-4504-9768-71E68BB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2FB8-97BF-40F1-9F7B-1670E66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D264-36DF-45F7-943E-12B1591F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C8B9-D3C5-4202-8E02-D87EEC4E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E956-C006-49E3-ACC5-CDCBA995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9590-71D0-4E1F-B7D6-9A4CAB90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1678-7EB5-4EB3-9235-1E17D918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05CC-8D4C-4897-B8DB-2AAE8454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17F-05B8-4041-BFEE-A7A7A939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F09C-F2C9-4BED-9859-C0267337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A8CB-3BB6-4796-9F00-5923BAD5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A680-234A-4F73-BAE2-19EC538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7881-1DEA-47C6-8A63-5E0F52C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8270-88E6-4A0D-90C0-0D1F2CE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944B-53E8-40E2-91C4-9DB18606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DDF7-E49A-4D8C-AF8C-9794265C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23B3-42C6-466A-AB8B-100BB882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FB9A-CBA0-4A82-AF81-CE2D837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1C89-F5BD-4043-B463-A21E9A6A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836-1C1A-45F3-8819-83266D02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0AE3-F14B-456A-BC9A-FD63211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DA03-50B5-4139-8C24-912CEEA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77BED-F7E0-46B4-8908-A98C2F15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0B2B-5C20-44CD-9F27-4424B95E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36E9-011E-4C46-A7CC-3F72B52F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D81A-9A67-4C0D-B168-FED146D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1FFC1-0104-4534-9523-4D6CFAF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AD7F0-1C50-49B4-90BD-8F7B5DB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7D51-4BFE-4057-B7DA-F69492DE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8211-0F84-4F8B-8854-5A16B20E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208-4450-4771-8C20-BCD2923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2F6B-C38A-4460-BF6F-2379BA10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9E64-6CCD-474B-A08F-0FF90245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D28B-302C-4CE6-84EC-76DEE162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CA9F-FD0A-4667-B357-9D43F3C8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3B98E-72B3-4824-A032-6826539A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62A41-6220-4C13-8D6A-0C6C721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7C33-CE2F-4FC5-94E8-757321F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F25F-8F46-41CE-9D00-63EB96D5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7C223-C8B7-4279-A836-96A46C56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35B0-2AB1-4F88-8C05-614969B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DF4-A1BD-4F02-AC32-1B0C38A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D870-F27D-486C-9307-9810BE8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712D-3774-494E-B878-F336C7C9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D294-5A46-4D8E-9FFA-40CA658B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87DE-FD28-402F-AAB1-FDCCF2AD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95983-B637-4036-A8BC-109750D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1D76-1257-4BC8-B078-CED6C2D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C063-4CB5-41EF-9381-007B421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A2913-65C0-4008-AAE7-E956C82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1BDB-47DD-49B2-A5E3-AED3355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56E36-083D-4C0C-B67B-B1C6716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5FB-C11F-450E-BD71-7EE5FA0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DA5E8-11B2-4BBF-9F49-02B844E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A84FF-1AB3-4AE3-89FF-E28E9F0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62EE-9B21-4C20-880B-50324CF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99DD-426A-415F-8B27-B49C1C0E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EEB54-0BB9-4159-BB3C-198926AC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360-A0C8-44F1-BA91-8876C6C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80E-D7FC-427A-B43D-6E196731E1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A8C-C820-49F6-980E-F7DA62BD8B0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9DB-A935-4A7B-B5EA-704CC0F64EE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91B-FDFF-4465-BBD4-1728AD2BA0B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9AED-B8EB-4C97-A89D-EAE337D3A2B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968E-D3ED-4CF5-866C-384CE0684E2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D0F2-F582-4FB2-80C1-50CE3687B40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polycom.com/usa/en/solutions/industry_solutions/education/searchable_database.html" TargetMode="External"/><Relationship Id="rId3" Type="http://schemas.openxmlformats.org/officeDocument/2006/relationships/hyperlink" Target="http://www.cilc.org/c/education/content_provider_programs.aspx" TargetMode="External"/><Relationship Id="rId4" Type="http://schemas.openxmlformats.org/officeDocument/2006/relationships/hyperlink" Target="http://www.twice.cc/fieldtrips.html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cilc.org/search/content-provider-program.aspx?id=957" TargetMode="External"/><Relationship Id="rId3" Type="http://schemas.openxmlformats.org/officeDocument/2006/relationships/hyperlink" Target="http://www.cilc.org/search/content-provider-program.aspx?id=106" TargetMode="External"/><Relationship Id="rId4" Type="http://schemas.openxmlformats.org/officeDocument/2006/relationships/hyperlink" Target="http://www.cilc.org/search/content-provider-program.aspx?id=1450" TargetMode="External"/><Relationship Id="rId5" Type="http://schemas.openxmlformats.org/officeDocument/2006/relationships/hyperlink" Target="http://www.cilc.org/search/content-provider-program.aspx?id=472" TargetMode="External"/><Relationship Id="rId6" Type="http://schemas.openxmlformats.org/officeDocument/2006/relationships/hyperlink" Target="http://www.cilc.org/search/content-provider-program.aspx?id=613" TargetMode="External"/><Relationship Id="rId7" Type="http://schemas.openxmlformats.org/officeDocument/2006/relationships/hyperlink" Target="http://www.cilc.org/search/content-provider-program.aspx?id=519" TargetMode="External"/><Relationship Id="rId8" Type="http://schemas.openxmlformats.org/officeDocument/2006/relationships/hyperlink" Target="http://www.cilc.org/search/content-provider-program.aspx?id=1810" TargetMode="External"/><Relationship Id="rId9" Type="http://schemas.openxmlformats.org/officeDocument/2006/relationships/hyperlink" Target="http://www.cilc.org/search/content-provider-program.aspx?id=1635" TargetMode="External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cilc.org/search/content-provider-program.aspx?id=1958" TargetMode="External"/><Relationship Id="rId3" Type="http://schemas.openxmlformats.org/officeDocument/2006/relationships/hyperlink" Target="http://www3.cet.edu/clc/main.html" TargetMode="External"/><Relationship Id="rId4" Type="http://schemas.openxmlformats.org/officeDocument/2006/relationships/hyperlink" Target="http://www.cilc.org/search/content-provider-program.aspx?id=1709" TargetMode="External"/><Relationship Id="rId5" Type="http://schemas.openxmlformats.org/officeDocument/2006/relationships/hyperlink" Target="http://www.nasm.si.edu/education/classroom_videoconf.cfm" TargetMode="External"/><Relationship Id="rId6" Type="http://schemas.openxmlformats.org/officeDocument/2006/relationships/hyperlink" Target="http://www.carnegiemnh.org/doe/programs/DL.htm" TargetMode="External"/><Relationship Id="rId7" Type="http://schemas.openxmlformats.org/officeDocument/2006/relationships/hyperlink" Target="http://dln.nasa.gov/dln/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education.baseballhalloffame.org/experience/videoconferences.html" TargetMode="External"/><Relationship Id="rId3" Type="http://schemas.openxmlformats.org/officeDocument/2006/relationships/hyperlink" Target="http://www.profootballhof.com/hall/distancelearning.aspx" TargetMode="External"/><Relationship Id="rId4" Type="http://schemas.openxmlformats.org/officeDocument/2006/relationships/hyperlink" Target="http://americanart.si.edu/education/" TargetMode="External"/><Relationship Id="rId5" Type="http://schemas.openxmlformats.org/officeDocument/2006/relationships/hyperlink" Target="http://www.mountvernon.org/learn/teachers_students/index.cfm/pid/1161/" TargetMode="External"/><Relationship Id="rId6" Type="http://schemas.openxmlformats.org/officeDocument/2006/relationships/hyperlink" Target="http://www.vanderbilt.edu/virtualschool/catalog.htm" TargetMode="External"/><Relationship Id="rId7" Type="http://schemas.openxmlformats.org/officeDocument/2006/relationships/hyperlink" Target="http://projects.twice.cc/" TargetMode="Externa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cartermuseum.org/teaching/distance-learning" TargetMode="External"/><Relationship Id="rId3" Type="http://schemas.openxmlformats.org/officeDocument/2006/relationships/hyperlink" Target="http://www.cilc.org/search/content-provider-program.aspx?id=1818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an assignment related to the conference information ready for the stud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vide the students with a brief evaluation of their experienc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view the evaluations and reflect upon the conference’s impact on learn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72964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22600"/>
            <a:ext cx="3657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earchable Databa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4953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olyco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enter for Interactive Learning and Collaboration (CIL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Two Way Interactive Connection in Education (TWICE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2" descr="C:\Users\Mary Wallace\AppData\Local\Microsoft\Windows\Temporary Internet Files\Content.IE5\XX8ZXM1I\MCj04316430000[1].png"/>
          <p:cNvPicPr/>
          <p:nvPr/>
        </p:nvPicPr>
        <p:blipFill>
          <a:blip r:embed="rId5"/>
          <a:stretch/>
        </p:blipFill>
        <p:spPr>
          <a:xfrm>
            <a:off x="1219320" y="35812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1000" autoRev="1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80880" y="2057400"/>
            <a:ext cx="28958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ath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504960" y="1722240"/>
            <a:ext cx="5181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ath Connections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Ani-Math K-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ozart Math 2-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ath &amp; Music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Batter Up 4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Math Connections in Art (Gridding)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Mathematica-Math in Society 6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What Good is a Parabola Anyway? 8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Picture 3" descr="C:\Users\Mary Wallace\AppData\Local\Microsoft\Windows\Temporary Internet Files\Content.IE5\T98HM1K2\MCj04361510000[1].wmf"/>
          <p:cNvPicPr/>
          <p:nvPr/>
        </p:nvPicPr>
        <p:blipFill>
          <a:blip r:embed="rId10"/>
          <a:stretch/>
        </p:blipFill>
        <p:spPr>
          <a:xfrm>
            <a:off x="914400" y="3276720"/>
            <a:ext cx="1857240" cy="164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6840" y="1722240"/>
            <a:ext cx="30481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cience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657600" y="172260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assport to Planet Earth K-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hallenger Learning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Can a Shoebox Fly? FREE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National Air &amp; Space Muse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Smithsonian Environmental Research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SI (Center of Science &amp; Industr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Carnegie Museum of Natural History K-12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NASA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3" descr="C:\Users\Mary Wallace\AppData\Local\Microsoft\Windows\Temporary Internet Files\Content.IE5\XX8ZXM1I\MCj03985510000[1].wmf"/>
          <p:cNvPicPr/>
          <p:nvPr/>
        </p:nvPicPr>
        <p:blipFill>
          <a:blip r:embed="rId8"/>
          <a:stretch/>
        </p:blipFill>
        <p:spPr>
          <a:xfrm>
            <a:off x="1295280" y="2895480"/>
            <a:ext cx="1362240" cy="1863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2260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Gothic"/>
              </a:rPr>
              <a:t>History: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5840" y="1722600"/>
            <a:ext cx="4800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National Base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oot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A House Divided FREE 5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t. Vernon Estate &amp; Garde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Virtual School @ Vanderbilt Univers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History Quest &amp; Mystery 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3" descr="C:\Users\Mary Wallace\AppData\Local\Microsoft\Windows\Temporary Internet Files\Content.IE5\Y9Y83ON7\MCj01498480000[1].wmf"/>
          <p:cNvPicPr/>
          <p:nvPr/>
        </p:nvPicPr>
        <p:blipFill>
          <a:blip r:embed="rId8"/>
          <a:stretch/>
        </p:blipFill>
        <p:spPr>
          <a:xfrm>
            <a:off x="685800" y="259092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33526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Language Arts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11480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etaphorically Speaking 6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lying Fingers (Adora Svitak)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rose &amp; Poetry at the Primary Level 2-5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ieces of Other Places (The Story Peddlers) 3-6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dgar Allen Poe 8-12 (Center for Puppetry Art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2" descr="C:\Users\Mary Wallace\AppData\Local\Microsoft\Windows\Temporary Internet Files\Content.IE5\9RXCMCMU\MCj04326650000[1].png"/>
          <p:cNvPicPr/>
          <p:nvPr/>
        </p:nvPicPr>
        <p:blipFill>
          <a:blip r:embed="rId4"/>
          <a:stretch/>
        </p:blipFill>
        <p:spPr>
          <a:xfrm>
            <a:off x="1219320" y="2514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se Ge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kiped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ooperating School Distric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enter for Interactive Learning and Collabo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885840" y="1722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t’s a communication technology that integrates video &amp; voice to connect remote users with each other as if they were in the same roo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rs see each other in real time allowing for natural convers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Users\Mary Wallace\AppData\Local\Microsoft\Windows\Temporary Internet Files\Content.IE5\Y9Y83ON7\MCj02374910000[1].wmf"/>
          <p:cNvPicPr/>
          <p:nvPr/>
        </p:nvPicPr>
        <p:blipFill>
          <a:blip r:embed="rId2"/>
          <a:stretch/>
        </p:blipFill>
        <p:spPr>
          <a:xfrm>
            <a:off x="484200" y="2133720"/>
            <a:ext cx="31399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ti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mone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llows for visits to places that would be impossibl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rings students from remote or isolated locations together with other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C:\Users\Mary Wallace\AppData\Local\Microsoft\Windows\Temporary Internet Files\Content.IE5\9RXCMCMU\MCj02321100000[1].wmf"/>
          <p:cNvPicPr/>
          <p:nvPr/>
        </p:nvPicPr>
        <p:blipFill>
          <a:blip r:embed="rId2"/>
          <a:stretch/>
        </p:blipFill>
        <p:spPr>
          <a:xfrm>
            <a:off x="1523880" y="2590920"/>
            <a:ext cx="1981440" cy="2611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657240" y="17524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input: video camera or webc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output: computer monitor, television, or project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input: micropho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output: speak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ata Transfer: LAN or Interne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C:\Users\Mary Wallace\AppData\Local\Microsoft\Windows\Temporary Internet Files\Content.IE5\XX8ZXM1I\MCj03577670000[1].wmf"/>
          <p:cNvPicPr/>
          <p:nvPr/>
        </p:nvPicPr>
        <p:blipFill>
          <a:blip r:embed="rId2"/>
          <a:stretch/>
        </p:blipFill>
        <p:spPr>
          <a:xfrm>
            <a:off x="533520" y="1447920"/>
            <a:ext cx="1131840" cy="160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Users\Mary Wallace\AppData\Local\Microsoft\Windows\Temporary Internet Files\Content.IE5\Y9Y83ON7\MCj03121320000[1].wmf"/>
          <p:cNvPicPr/>
          <p:nvPr/>
        </p:nvPicPr>
        <p:blipFill>
          <a:blip r:embed="rId3"/>
          <a:stretch/>
        </p:blipFill>
        <p:spPr>
          <a:xfrm>
            <a:off x="2209680" y="2514600"/>
            <a:ext cx="1086120" cy="1523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Users\Mary Wallace\AppData\Local\Microsoft\Windows\Temporary Internet Files\Content.IE5\XX8ZXM1I\MCj04123380000[1].wmf"/>
          <p:cNvPicPr/>
          <p:nvPr/>
        </p:nvPicPr>
        <p:blipFill>
          <a:blip r:embed="rId4"/>
          <a:stretch/>
        </p:blipFill>
        <p:spPr>
          <a:xfrm>
            <a:off x="1600200" y="4800600"/>
            <a:ext cx="1825560" cy="1352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C:\Users\Mary Wallace\AppData\Local\Microsoft\Windows\Temporary Internet Files\Content.IE5\9RXCMCMU\MCj04316120000[1].png"/>
          <p:cNvPicPr/>
          <p:nvPr/>
        </p:nvPicPr>
        <p:blipFill>
          <a:blip r:embed="rId5"/>
          <a:stretch/>
        </p:blipFill>
        <p:spPr>
          <a:xfrm>
            <a:off x="228600" y="3276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7820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Before starting ask yourself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ll VC really benefit my projec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uld the project be done using another medium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m I using VC just because it’s really cool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Think of a project that would benef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Find partners to participa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ending on the content you may want to invite      additional classrooms or an expert provide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72392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. Share information with the provider via the web or email – get as much contact information as possible!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. Set a date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Know the dates you wan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ork well in advance (3 to 4 months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. Find out if you must schedule through a bridge or if the connection is point to point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ridges must be used when handling mixed protocols (H.320 ISDN &amp; H.323 I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lti Point Control Units are bridges that can connect calls from several sourc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7. If working with other schools, be sure to include a project timeli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f they are sharing they need time to prep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8. Before conference day, do a test connec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 sure to schedule it with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9. On conference day, set up the equipment EARLY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n agenda for start and stop time should be establishe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hen working collaboratively, decide who is responsible for each par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. Be prepared for the wors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copies of all materials in case of equipment failure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phone numbers available for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fore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t up an easy point to point conference with another class and have students practice introducing themselves and speaking loudly &amp; clearly into the micropho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students come up with questions and email them to the provi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mind students of the sensitivity of the microphone and of things they should and shouldn’t sa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uring the conferenc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ve students seated and ready at least 10 minutes before the start tim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f a seating chart was not given to the provider, have nametags placed in visible location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ecide upon a procedure for asking questions with the provider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te your microphone for the class until they need to speak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2:49:09Z</dcterms:created>
  <dc:creator>Mary Wallace</dc:creator>
  <dc:description/>
  <dc:language>en-US</dc:language>
  <cp:lastModifiedBy>Mary Wallace</cp:lastModifiedBy>
  <dcterms:modified xsi:type="dcterms:W3CDTF">2009-07-19T02:30:55Z</dcterms:modified>
  <cp:revision>22</cp:revision>
  <dc:subject/>
  <dc:title>Slide 1</dc:title>
</cp:coreProperties>
</file>